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Catherine Pilachowsk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A729-863C-479D-B071-2A5AC462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n the Infra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pitzer Space Telescope, and how does i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bout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ed by NASA’s Spitzer Science Ce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courtesy NASA/JPL - Calte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 Col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 operates at 5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-  Spitzer is itself a black body radiator, and must be colder than the astronomical sources it det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shield/solar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shell insulates and cools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Spitzer’s Instruments Even Col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ank of liquid helium is used to keep Spitzer’s instruments and detectors at 1.5 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 – InfraRed Array Came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3.6, 4.5, 5.8, and 8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– InfraRed Spectrogra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-IR spectroscop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– Multiband Imaging Photometer for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t 24, 70, and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A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Array Camera (IRA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Smithsonian Astrophysical Observa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images in four IR passb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Spectro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Cornell Univers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 in the mid-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band Imaging Photometer for Spitzer (MIP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detector ar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x128 pixel Si:As for 24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x32 pixel Ge:Ga for 7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0 pixel Ge:Ga for 160 m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t the University  of Arizo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nstruments are arranged in fixed locations on the Spitzer focal pl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 is rotated to move a particular science target to the right position for the instrument to be us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 record data for “serendipitous” f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per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itzer.caltech.edu/about/now.s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pitzer Doing 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nfrared Satelli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Herschel Space Observatory - a European Space Agency infrared-submillimeter mission planned for 2007 to study galaxy formation, interstellar matter, star formation and the atmospheres of comet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: Planck Surveyor - European Space Agency far infrared-submillimeter mission planned for 2007 to study Cosmic Background Radi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: The James Webb Space Telescope, planned for launch in about 2011, is a visible/infrared space mission to study the early universe and the formation of galaxies, stars and planet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’s 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IR Telesco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’s Great Observato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the final spacecraft in NASA's Great Observatories pro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T 199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ton GRO 199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ra 199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tzer Space Telescope is a cryogenically cooled, infrared observatory in space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can study objects ranging from our Solar System to the distant reaches of the Univers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from KSC 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August 200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ti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years (minimum);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years (go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Orb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pace telescopes orbit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orbits the Sun - trailing the Earth as it moves around the S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is receding from Earth at 9.3 million miles (15 million kilometers)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now trails the Earth in its orbit by about 20 million miles (~ 32 million kilometers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2008, Spitzer will be about 56 million miles or 90 million kilometers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d for Lyman Spitz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an Spitzer was the driving force behind HS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the study of the interstellar med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interstellar dust and star 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Telesco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Місце для номера слайда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tzer Spe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 cm (33.5”) dia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 berylli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12 curva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: 851.5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cryogen: 50.4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propellent: 15.6 k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CB5-C8AA-404C-9956-AB7AFC9A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A8E-955A-4DEC-8389-7CAFDAD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B87-86E8-46A0-85F4-9DC10EFF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8DC-A801-46AB-8E27-4FE881B5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620-74FC-45D0-8323-D21AFD5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F74-3552-4ACF-8D5B-ADE1E138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56A-84E8-4AED-89B4-ED71BE8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C46-16CC-4B6E-9FE3-FB469F2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93680" y="274680"/>
            <a:ext cx="6692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C36-2CF8-440D-A8C7-D58B1E23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3DA-096C-4BE3-BF1F-A119170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B26-5C16-439C-8591-A4B3CC1F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28C-FCA4-48E5-9E8B-37CFB38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2280" y="6487920"/>
            <a:ext cx="26496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uk-UA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a50021"/>
                </a:solidFill>
                <a:latin typeface="Comic Sans MS"/>
              </a:rPr>
              <a:t>Pilachowski / August 20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1480" y="6514920"/>
            <a:ext cx="1219320" cy="32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50021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Slide </a:t>
            </a:r>
            <a:fld id="{E91FE290-5CE6-43DC-9EE5-142D4EEDA680}" type="slidenum">
              <a:rPr b="0" i="1" lang="en-US" sz="1200" spc="-1" strike="noStrike">
                <a:solidFill>
                  <a:srgbClr val="a50021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3405240" y="6619680"/>
            <a:ext cx="2511360" cy="126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2063880" y="1262160"/>
            <a:ext cx="665136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ssc.spitzer.caltech.edu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sc.spitzer.caltech.ed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sc.spitzer.caltech.edu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2280" y="269640"/>
            <a:ext cx="766296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e in the Infr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000" y="3593880"/>
            <a:ext cx="743436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Spitzer Space Telescope, and how does it wor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367080" y="1711440"/>
            <a:ext cx="524340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All about Spitz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3" name="Picture 5" descr="spitzer_logo_color_small"/>
          <p:cNvPicPr/>
          <p:nvPr/>
        </p:nvPicPr>
        <p:blipFill>
          <a:blip r:embed="rId1"/>
          <a:stretch/>
        </p:blipFill>
        <p:spPr>
          <a:xfrm>
            <a:off x="250920" y="5659560"/>
            <a:ext cx="2743200" cy="102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378600" y="6167520"/>
            <a:ext cx="52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unded by NASA’s Spitzer Science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977080" y="6613560"/>
            <a:ext cx="258264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062240" y="5527800"/>
            <a:ext cx="46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mages courtesy NASA/JPL - Calte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10" descr="sirtf_09_2002_small"/>
          <p:cNvPicPr/>
          <p:nvPr/>
        </p:nvPicPr>
        <p:blipFill>
          <a:blip r:embed="rId2"/>
          <a:stretch/>
        </p:blipFill>
        <p:spPr>
          <a:xfrm>
            <a:off x="198360" y="212760"/>
            <a:ext cx="1652760" cy="113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58" name="Нижний колонтитул 9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93680" y="380520"/>
            <a:ext cx="46767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eping Spitzer C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599840"/>
            <a:ext cx="420984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escope operates at 5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4" descr="feature200308-3small"/>
          <p:cNvPicPr/>
          <p:nvPr/>
        </p:nvPicPr>
        <p:blipFill>
          <a:blip r:embed="rId1"/>
          <a:stretch/>
        </p:blipFill>
        <p:spPr>
          <a:xfrm>
            <a:off x="5253120" y="1371600"/>
            <a:ext cx="3424320" cy="5151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1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7960" y="2655720"/>
            <a:ext cx="419724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-  Spitzer is itself a black body radiator, and must be colder than the astronomical sources it det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82480" y="4386240"/>
            <a:ext cx="3713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 shield/solar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er shell insulates and cools the telesco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31600" y="608040"/>
            <a:ext cx="741204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ing Spitzer’s Instruments Even Col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5" descr="Cryostat"/>
          <p:cNvPicPr/>
          <p:nvPr/>
        </p:nvPicPr>
        <p:blipFill>
          <a:blip r:embed="rId1"/>
          <a:stretch/>
        </p:blipFill>
        <p:spPr>
          <a:xfrm>
            <a:off x="0" y="0"/>
            <a:ext cx="17366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ryostat"/>
          <p:cNvPicPr/>
          <p:nvPr/>
        </p:nvPicPr>
        <p:blipFill>
          <a:blip r:embed="rId2"/>
          <a:stretch/>
        </p:blipFill>
        <p:spPr>
          <a:xfrm>
            <a:off x="216000" y="2637000"/>
            <a:ext cx="2770200" cy="33829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18" name="Picture 13" descr="Diagram 2"/>
          <p:cNvPicPr/>
          <p:nvPr/>
        </p:nvPicPr>
        <p:blipFill>
          <a:blip r:embed="rId3"/>
          <a:stretch/>
        </p:blipFill>
        <p:spPr>
          <a:xfrm>
            <a:off x="3189240" y="2187720"/>
            <a:ext cx="5837400" cy="4167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1840" y="1434600"/>
            <a:ext cx="69865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nk of liquid helium is used to keep Spitzer’s instruments and detectors at 1.5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94040" y="579240"/>
            <a:ext cx="4613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8320" y="1600200"/>
            <a:ext cx="796464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AC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r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3.6, 4.5, 5.8, and 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R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f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ctro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d-IR spectrosco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ib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tomete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tz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ages at 24, 70, and 16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MIC"/>
          <p:cNvPicPr/>
          <p:nvPr/>
        </p:nvPicPr>
        <p:blipFill>
          <a:blip r:embed="rId1"/>
          <a:stretch/>
        </p:blipFill>
        <p:spPr>
          <a:xfrm>
            <a:off x="709560" y="3567240"/>
            <a:ext cx="7602480" cy="27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432200" y="361476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600080" y="584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38920" y="5803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IR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62625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Array Camera (IRA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Various Views of IRAC in Assembly"/>
          <p:cNvPicPr/>
          <p:nvPr/>
        </p:nvPicPr>
        <p:blipFill>
          <a:blip r:embed="rId1"/>
          <a:stretch/>
        </p:blipFill>
        <p:spPr>
          <a:xfrm>
            <a:off x="5078520" y="1776240"/>
            <a:ext cx="380988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IRAC Conceptual Layout"/>
          <p:cNvPicPr/>
          <p:nvPr/>
        </p:nvPicPr>
        <p:blipFill>
          <a:blip r:embed="rId2"/>
          <a:stretch/>
        </p:blipFill>
        <p:spPr>
          <a:xfrm>
            <a:off x="316080" y="3197160"/>
            <a:ext cx="4422600" cy="32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RAC - Infrared Array Camera for the Spitzer Space Telescope"/>
          <p:cNvPicPr/>
          <p:nvPr/>
        </p:nvPicPr>
        <p:blipFill>
          <a:blip r:embed="rId3"/>
          <a:stretch/>
        </p:blipFill>
        <p:spPr>
          <a:xfrm>
            <a:off x="282600" y="430200"/>
            <a:ext cx="1471680" cy="885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05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Smithsonian Astrophysical Observa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taneous images in four IR pass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93680" y="469800"/>
            <a:ext cx="4794120" cy="7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raRed Spectrome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3520" y="4898880"/>
            <a:ext cx="48067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Cornell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troscopy in the mid-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7" descr="IRS&amp;Jeff1s"/>
          <p:cNvPicPr/>
          <p:nvPr/>
        </p:nvPicPr>
        <p:blipFill>
          <a:blip r:embed="rId1"/>
          <a:stretch/>
        </p:blipFill>
        <p:spPr>
          <a:xfrm>
            <a:off x="384120" y="3952800"/>
            <a:ext cx="3319560" cy="2210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8" name="Picture 5" descr="IRS Diagram"/>
          <p:cNvPicPr/>
          <p:nvPr/>
        </p:nvPicPr>
        <p:blipFill>
          <a:blip r:embed="rId2"/>
          <a:stretch/>
        </p:blipFill>
        <p:spPr>
          <a:xfrm>
            <a:off x="2936880" y="1492200"/>
            <a:ext cx="5745240" cy="30006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39" name="Picture 9" descr="IRS Logo"/>
          <p:cNvPicPr/>
          <p:nvPr/>
        </p:nvPicPr>
        <p:blipFill>
          <a:blip r:embed="rId3"/>
          <a:stretch/>
        </p:blipFill>
        <p:spPr>
          <a:xfrm>
            <a:off x="311040" y="239760"/>
            <a:ext cx="142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band Imaging Photometer for Spitzer (MI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5" descr="MIPS Diagram"/>
          <p:cNvPicPr/>
          <p:nvPr/>
        </p:nvPicPr>
        <p:blipFill>
          <a:blip r:embed="rId1"/>
          <a:stretch/>
        </p:blipFill>
        <p:spPr>
          <a:xfrm>
            <a:off x="1092240" y="1366920"/>
            <a:ext cx="3965400" cy="364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mpmips4.JPG (177820 bytes)"/>
          <p:cNvPicPr/>
          <p:nvPr/>
        </p:nvPicPr>
        <p:blipFill>
          <a:blip r:embed="rId2"/>
          <a:stretch/>
        </p:blipFill>
        <p:spPr>
          <a:xfrm rot="18955800">
            <a:off x="4808160" y="2949120"/>
            <a:ext cx="3822840" cy="2521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44" name="Picture 10" descr="patchfnl2.jpg (17379 bytes)"/>
          <p:cNvPicPr/>
          <p:nvPr/>
        </p:nvPicPr>
        <p:blipFill>
          <a:blip r:embed="rId3"/>
          <a:stretch/>
        </p:blipFill>
        <p:spPr>
          <a:xfrm>
            <a:off x="360360" y="1904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4200" y="4868640"/>
            <a:ext cx="487512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detector arr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8x128 pixel Si:As for 24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x32 pixel Ge:Ga for 7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20 pixel Ge:Ga for 160 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72120" y="1386000"/>
            <a:ext cx="35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t at the University  of Ariz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94040" y="536040"/>
            <a:ext cx="516888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tzer Focal Pla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44360"/>
            <a:ext cx="4092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itzer instruments are arranged in fixed locations on the Spitzer focal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lescope is rotated to move a particular science target to the right position for the instrument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instruments record data for “serendipitous” fie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4" descr="focalplane_ch2"/>
          <p:cNvPicPr/>
          <p:nvPr/>
        </p:nvPicPr>
        <p:blipFill>
          <a:blip r:embed="rId4"/>
          <a:stretch/>
        </p:blipFill>
        <p:spPr>
          <a:xfrm>
            <a:off x="4902120" y="1417680"/>
            <a:ext cx="3810240" cy="496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MIC"/>
          <p:cNvPicPr/>
          <p:nvPr/>
        </p:nvPicPr>
        <p:blipFill>
          <a:blip r:embed="rId5"/>
          <a:srcRect l="54739" t="0" r="0" b="0"/>
          <a:stretch/>
        </p:blipFill>
        <p:spPr>
          <a:xfrm>
            <a:off x="352440" y="174600"/>
            <a:ext cx="1593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94040" y="523800"/>
            <a:ext cx="4032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 Op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SSC Home Page"/>
          <p:cNvPicPr/>
          <p:nvPr/>
        </p:nvPicPr>
        <p:blipFill>
          <a:blip r:embed="rId1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lue and Red Diagram of Spitzer"/>
          <p:cNvPicPr/>
          <p:nvPr/>
        </p:nvPicPr>
        <p:blipFill>
          <a:blip r:embed="rId2"/>
          <a:stretch/>
        </p:blipFill>
        <p:spPr>
          <a:xfrm>
            <a:off x="4270320" y="1865160"/>
            <a:ext cx="4481640" cy="410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680" y="5958000"/>
            <a:ext cx="636912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ww.spitzer.caltech.edu/about/now.s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11040" y="4929120"/>
            <a:ext cx="329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Spitzer Doing Now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observe.mpeg" descr=""/>
          <p:cNvPicPr/>
          <p:nvPr/>
        </p:nvPicPr>
        <p:blipFill>
          <a:blip r:embed="rId3"/>
          <a:stretch/>
        </p:blipFill>
        <p:spPr>
          <a:xfrm>
            <a:off x="328680" y="1468440"/>
            <a:ext cx="3751200" cy="2813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54878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nfrared Satell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first"/>
          <p:cNvPicPr/>
          <p:nvPr/>
        </p:nvPicPr>
        <p:blipFill>
          <a:blip r:embed="rId1"/>
          <a:stretch/>
        </p:blipFill>
        <p:spPr>
          <a:xfrm>
            <a:off x="214200" y="4573440"/>
            <a:ext cx="2805120" cy="1683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2" name="Text Box 6"/>
          <p:cNvSpPr/>
          <p:nvPr/>
        </p:nvSpPr>
        <p:spPr>
          <a:xfrm>
            <a:off x="254160" y="1682640"/>
            <a:ext cx="283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rschel Space Observat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a European Space Agency infrared-submillimeter mission planned for 2007 to study galaxy formation, interstellar matter, star formation and the atmospheres of comets and planet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planck"/>
          <p:cNvPicPr/>
          <p:nvPr/>
        </p:nvPicPr>
        <p:blipFill>
          <a:blip r:embed="rId2"/>
          <a:stretch/>
        </p:blipFill>
        <p:spPr>
          <a:xfrm>
            <a:off x="3728880" y="1519200"/>
            <a:ext cx="1352880" cy="1666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5222880" y="1484280"/>
            <a:ext cx="35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07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lanck Surveyo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- European Space Agency far infrared-submillimeter mission planned for 2007 to study Cosmic Background Radi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3548160" y="3646800"/>
            <a:ext cx="30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10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James Webb Space Telescope, planned for launch in about 2011, is a visible/infrared space mission to study the early universe and the formation of galaxies, stars and planet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5" descr="ngst"/>
          <p:cNvPicPr/>
          <p:nvPr/>
        </p:nvPicPr>
        <p:blipFill>
          <a:blip r:embed="rId3"/>
          <a:stretch/>
        </p:blipFill>
        <p:spPr>
          <a:xfrm>
            <a:off x="6550200" y="3579840"/>
            <a:ext cx="2417760" cy="2759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67" name="Picture 17" descr="MCj02327650000[1]"/>
          <p:cNvPicPr/>
          <p:nvPr/>
        </p:nvPicPr>
        <p:blipFill>
          <a:blip r:embed="rId4"/>
          <a:stretch/>
        </p:blipFill>
        <p:spPr>
          <a:xfrm>
            <a:off x="409680" y="206280"/>
            <a:ext cx="1069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3680" y="446040"/>
            <a:ext cx="26384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84240" y="1600200"/>
            <a:ext cx="681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tzer’s 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b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IR Telesco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10" descr="Hubble Against Earth's Horizon"/>
          <p:cNvPicPr/>
          <p:nvPr/>
        </p:nvPicPr>
        <p:blipFill>
          <a:blip r:embed="rId1"/>
          <a:stretch/>
        </p:blipFill>
        <p:spPr>
          <a:xfrm>
            <a:off x="449280" y="1477800"/>
            <a:ext cx="2190600" cy="1462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6692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SA’s Great Observato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3040" y="5314680"/>
            <a:ext cx="599112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is the final spacecraft in NASA's Great Observatories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8" descr="AXAF-smaller2"/>
          <p:cNvPicPr/>
          <p:nvPr/>
        </p:nvPicPr>
        <p:blipFill>
          <a:blip r:embed="rId2"/>
          <a:stretch/>
        </p:blipFill>
        <p:spPr>
          <a:xfrm>
            <a:off x="450720" y="4903920"/>
            <a:ext cx="2202120" cy="1412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69" name="Picture 5" descr="sirtf_09_2002_small"/>
          <p:cNvPicPr/>
          <p:nvPr/>
        </p:nvPicPr>
        <p:blipFill>
          <a:blip r:embed="rId3"/>
          <a:stretch/>
        </p:blipFill>
        <p:spPr>
          <a:xfrm>
            <a:off x="3176640" y="1495440"/>
            <a:ext cx="5205240" cy="35877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70" name="Picture 12" descr="CGRO Cartoon"/>
          <p:cNvPicPr/>
          <p:nvPr/>
        </p:nvPicPr>
        <p:blipFill>
          <a:blip r:embed="rId4"/>
          <a:stretch/>
        </p:blipFill>
        <p:spPr>
          <a:xfrm>
            <a:off x="423720" y="3137040"/>
            <a:ext cx="2210040" cy="15843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71" name="Text Box 13"/>
          <p:cNvSpPr/>
          <p:nvPr/>
        </p:nvSpPr>
        <p:spPr>
          <a:xfrm>
            <a:off x="459000" y="2592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ST 19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345240" y="4378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pton GRO 199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51520" y="594360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ndra 199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20" descr="Full White"/>
          <p:cNvPicPr/>
          <p:nvPr/>
        </p:nvPicPr>
        <p:blipFill>
          <a:blip r:embed="rId5"/>
          <a:srcRect l="20720" t="16750" r="17934" b="19830"/>
          <a:stretch/>
        </p:blipFill>
        <p:spPr>
          <a:xfrm>
            <a:off x="527040" y="214200"/>
            <a:ext cx="11239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94040" y="618840"/>
            <a:ext cx="438768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Spitz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2120" y="1663200"/>
            <a:ext cx="3422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he Spitzer Space Telescope is a cryogenically cooled, infrared observatory in space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pitzer can study objects ranging from our Solar System to the distant reaches of the Univers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6" descr="xsirtf_08_2002_small"/>
          <p:cNvPicPr/>
          <p:nvPr/>
        </p:nvPicPr>
        <p:blipFill>
          <a:blip r:embed="rId1"/>
          <a:stretch/>
        </p:blipFill>
        <p:spPr>
          <a:xfrm>
            <a:off x="3879720" y="1663560"/>
            <a:ext cx="4934160" cy="43419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0" name="Picture 7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ir_launch_3"/>
          <p:cNvPicPr/>
          <p:nvPr/>
        </p:nvPicPr>
        <p:blipFill>
          <a:blip r:embed="rId1"/>
          <a:stretch/>
        </p:blipFill>
        <p:spPr>
          <a:xfrm>
            <a:off x="905040" y="1474920"/>
            <a:ext cx="6502320" cy="4876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93680" y="552600"/>
            <a:ext cx="198756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85480" y="1584360"/>
            <a:ext cx="3227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aunched from KSC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5 August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a12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Lifetim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2.5 years (minimum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a1218"/>
                </a:solidFill>
                <a:latin typeface="Comic Sans MS"/>
              </a:rPr>
              <a:t>5+ years (go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4" descr="feature200308-4small"/>
          <p:cNvPicPr/>
          <p:nvPr/>
        </p:nvPicPr>
        <p:blipFill>
          <a:blip r:embed="rId2"/>
          <a:stretch/>
        </p:blipFill>
        <p:spPr>
          <a:xfrm>
            <a:off x="5451480" y="395280"/>
            <a:ext cx="3192480" cy="46483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86" name="Picture 5" descr="SSC Home P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94040" y="538200"/>
            <a:ext cx="354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iocentric Or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47600"/>
            <a:ext cx="4495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space telescopes orbit the Ear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orbits the Sun - trailing the Earth as it moves around the S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is receding from Earth at 9.3 million miles (15 million kilometers) per y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tzer now trails the Earth in its orbit by about 20 million miles (~ 32 million kilomete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2008, Spitzer will be about 56 million miles or 90 million kilometers 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SSC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earth_trailing2small"/>
          <p:cNvPicPr/>
          <p:nvPr/>
        </p:nvPicPr>
        <p:blipFill>
          <a:blip r:embed="rId3"/>
          <a:stretch/>
        </p:blipFill>
        <p:spPr>
          <a:xfrm>
            <a:off x="5892840" y="404640"/>
            <a:ext cx="2609640" cy="196056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2" name="orbit.mpeg" descr=""/>
          <p:cNvPicPr/>
          <p:nvPr/>
        </p:nvPicPr>
        <p:blipFill>
          <a:blip r:embed="rId4"/>
          <a:stretch/>
        </p:blipFill>
        <p:spPr>
          <a:xfrm>
            <a:off x="5013360" y="3021120"/>
            <a:ext cx="3948120" cy="296208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3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4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6120" y="566640"/>
            <a:ext cx="461484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d for Lyman Spit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240" y="1641240"/>
            <a:ext cx="39639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yman Spitzer was the driving force behind H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ed the study of the interstellar med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33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ied interstellar dust and star 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Lyman Spitzer, Jr."/>
          <p:cNvPicPr/>
          <p:nvPr/>
        </p:nvPicPr>
        <p:blipFill>
          <a:blip r:embed="rId1"/>
          <a:stretch/>
        </p:blipFill>
        <p:spPr>
          <a:xfrm>
            <a:off x="541440" y="1677960"/>
            <a:ext cx="3440160" cy="43736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97" name="Picture 6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6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93680" y="274680"/>
            <a:ext cx="59180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ing the Tele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config1"/>
          <p:cNvPicPr/>
          <p:nvPr/>
        </p:nvPicPr>
        <p:blipFill>
          <a:blip r:embed="rId1"/>
          <a:stretch/>
        </p:blipFill>
        <p:spPr>
          <a:xfrm>
            <a:off x="1184400" y="1374840"/>
            <a:ext cx="7356240" cy="491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SC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5"/>
          <p:cNvSpPr/>
          <p:nvPr/>
        </p:nvSpPr>
        <p:spPr>
          <a:xfrm>
            <a:off x="428760" y="6477120"/>
            <a:ext cx="2895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94040" y="274680"/>
            <a:ext cx="3644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itzer Spe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6483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irr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85 cm (33.5”) dia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lightweight berylliu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f/12 curv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eigh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Telescope: 851.5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e cryogen: 50.4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propellent: 15.6 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" descr="mirror_tech"/>
          <p:cNvPicPr/>
          <p:nvPr/>
        </p:nvPicPr>
        <p:blipFill>
          <a:blip r:embed="rId1"/>
          <a:stretch/>
        </p:blipFill>
        <p:spPr>
          <a:xfrm>
            <a:off x="4800600" y="1371600"/>
            <a:ext cx="3784680" cy="507672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pic>
        <p:nvPicPr>
          <p:cNvPr id="106" name="Picture 5" descr="SSC Home Page"/>
          <p:cNvPicPr/>
          <p:nvPr/>
        </p:nvPicPr>
        <p:blipFill>
          <a:blip r:embed="rId2"/>
          <a:stretch/>
        </p:blipFill>
        <p:spPr>
          <a:xfrm>
            <a:off x="297000" y="369720"/>
            <a:ext cx="166356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14:40:01Z</dcterms:created>
  <dc:creator>Catherine Pilachowski</dc:creator>
  <dc:description/>
  <dc:language>en-US</dc:language>
  <cp:lastModifiedBy>LEGION</cp:lastModifiedBy>
  <dcterms:modified xsi:type="dcterms:W3CDTF">2018-03-22T08:49:35Z</dcterms:modified>
  <cp:revision>17</cp:revision>
  <dc:subject/>
  <dc:title>Slide 1</dc:title>
</cp:coreProperties>
</file>